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2F96-8FEE-4431-B3E8-3CCBC515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ED84-A221-4BEF-AF49-3142AA93CF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94FE-C013-4545-A22E-A2E9576E0C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F75E-E632-4221-913B-A9ECD83F1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90F-0749-434A-A2CC-5CBAA5A5D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9B4F-5C93-4EC2-ADED-690D95779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570F-2C0C-4B19-B369-A880FCE08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E8C-C9E6-4A59-B97C-556D3621E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3BE-04B9-4B84-893F-D49ED977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904-97B8-4865-9648-A5985B5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808-26A8-4221-8A67-08ADEFC2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035-73BD-4C4F-A052-7DFD40F5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E585-47C9-49A3-A068-8B831BD4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871DF-0D34-4225-8B1F-1E9A9B0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7AB2-EDF2-4391-9424-0CC2AB6E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B3AE0-7AC0-4792-AF57-99DF5E47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16ECC-4D95-4DF1-A6D1-CBEA83F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CA391-A996-4501-B70D-3EF6260B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2B751-4D98-492F-B36D-F879721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CBE-DBD9-4284-86D1-15459894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26DBE-5F55-4462-A162-B1B3F4A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BDE2D-EEFA-40C6-9313-F025B8C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69D92-007D-4D3A-A35A-9119B3DB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8A4A1-A9A6-4892-9639-BD30FFEC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9EB25-CDB7-4667-AEE3-7367958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60B-E5BA-4BBE-97AE-6061A92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85D-9296-4334-97FC-DFA68B4F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B6D-FAC1-44D9-869A-493A8B4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C33-AD96-4F6B-9043-AA57EF84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F4F-CA8B-47F6-9079-8173B489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0BB-3764-422F-B467-B45B2D2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851-875A-4EA4-9E8F-0036772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C45-2A61-449A-BBB6-4EC48DBB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6FE3-2E05-42CF-A80D-9C03790B4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ching Spirit B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838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em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totem"/>
          <p:cNvPicPr/>
          <p:nvPr/>
        </p:nvPicPr>
        <p:blipFill>
          <a:blip r:embed="rId2"/>
          <a:stretch/>
        </p:blipFill>
        <p:spPr>
          <a:xfrm>
            <a:off x="3505320" y="2590920"/>
            <a:ext cx="2185920" cy="324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ote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natural or mythical animal to whom you feel a close connection during your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ergy of the totem animal speaks to you in some way that is relevant to your own personality or circumstance in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totem_pole_3"/>
          <p:cNvPicPr/>
          <p:nvPr/>
        </p:nvPicPr>
        <p:blipFill>
          <a:blip r:embed="rId2"/>
          <a:stretch/>
        </p:blipFill>
        <p:spPr>
          <a:xfrm>
            <a:off x="5124600" y="1905120"/>
            <a:ext cx="30844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Origin of Tote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ly, the totem was an animal that represented a clan or familial group in order to distinguish them from other c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lso - in some practices - an individual animal that guided a person on their spiritual or life journe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animaltotem"/>
          <p:cNvPicPr/>
          <p:nvPr/>
        </p:nvPicPr>
        <p:blipFill>
          <a:blip r:embed="rId2"/>
          <a:stretch/>
        </p:blipFill>
        <p:spPr>
          <a:xfrm>
            <a:off x="5605560" y="1905120"/>
            <a:ext cx="212256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tem is Connected to Your Spir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of many countries have animal spirits that play a very important part in their li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hinese astrology all the signs are animals and in western astrology most of the signs are anim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bear-totem"/>
          <p:cNvPicPr/>
          <p:nvPr/>
        </p:nvPicPr>
        <p:blipFill>
          <a:blip r:embed="rId2"/>
          <a:stretch/>
        </p:blipFill>
        <p:spPr>
          <a:xfrm>
            <a:off x="4767120" y="1905120"/>
            <a:ext cx="380052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 Totems and Their Mea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952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 -Teaches strength, solitude,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gle-Teaches courage, freedom, spiritual ba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le-Teaches provision, creation, awa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-Teaches freedom of spirit, discipline,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totem1lg"/>
          <p:cNvPicPr/>
          <p:nvPr/>
        </p:nvPicPr>
        <p:blipFill>
          <a:blip r:embed="rId2"/>
          <a:stretch/>
        </p:blipFill>
        <p:spPr>
          <a:xfrm>
            <a:off x="5227560" y="1905120"/>
            <a:ext cx="287964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totem for Cole Matth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ust have a minimum of 3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or use computer graphics to create your to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must b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totemowlsweb-main_Full"/>
          <p:cNvPicPr/>
          <p:nvPr/>
        </p:nvPicPr>
        <p:blipFill>
          <a:blip r:embed="rId2"/>
          <a:stretch/>
        </p:blipFill>
        <p:spPr>
          <a:xfrm>
            <a:off x="5180040" y="1905120"/>
            <a:ext cx="297324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ust include a paragraph explaining why you chose these animals and why they fit Cole and his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agraph should be in ink or word proc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reative and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animal_totem2"/>
          <p:cNvPicPr/>
          <p:nvPr/>
        </p:nvPicPr>
        <p:blipFill>
          <a:blip r:embed="rId2"/>
          <a:stretch/>
        </p:blipFill>
        <p:spPr>
          <a:xfrm>
            <a:off x="5405400" y="1905120"/>
            <a:ext cx="252252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46:37Z</dcterms:created>
  <dc:creator>mtsd webmaster</dc:creator>
  <dc:description/>
  <dc:language>en-US</dc:language>
  <cp:lastModifiedBy>Debby/Caven</cp:lastModifiedBy>
  <dcterms:modified xsi:type="dcterms:W3CDTF">2010-04-01T01:42:21Z</dcterms:modified>
  <cp:revision>11</cp:revision>
  <dc:subject/>
  <dc:title>Touching Spirit Bear</dc:title>
</cp:coreProperties>
</file>